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B590-9A0F-44BE-B014-B3AEB3C92AD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odland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odland Ind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id they 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theastern tribes mostly lived in longhou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veral families would live in one hou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did they liv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Northeastern tribes mostly lived in longhous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veral families would live in one hous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travel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ibes lived near water for transportation purpo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thern tribes made birchbark canoes and the southeastern tribes dug out canoes from tree trunk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land, the natives traveled on foot and bore their cargo on their backs, having no pack anim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gs were their sole domesticated anim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bout travel??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ribes lived near water for transportation purpos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northern tribes made birchbark canoes and the southeastern tribes dug out canoes from tree trunk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 land, the natives traveled on foot and bore their cargo on their backs, having no pack animal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gs were their sole domesticated animal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land Fash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ous hours were required to make the popular deerskin summer appare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s from bears, rabbits and raccoons kept them warm in the win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key feathers were a popular accessory since it is waterproo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e painting and the men's scalp lock (with shaven side hair) were typic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igns in the clothes were closely tied to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odland Fash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merous hours were required to make the popular deerskin summer apparel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rs from bears, rabbits and raccoons kept them warm in the winter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urkey feathers were a popular accessory since it is waterproof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ce painting and the men's scalp lock (with shaven side hair) were typical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signs in the clothes were closely tied to n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was very frequent between the Woodland trib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ly an Iroquois Chief, Hiawatha, was tired of fighting and formed the Iroquois League of N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where each tribe had a representative that would come and debate on war and tribal issu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r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r was very frequent between the Woodland trib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ly an Iroquois Chief, Hiawatha, was tired of fighting and formed the Iroquois League of Nati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where each tribe had a representative that would come and debate on war and tribal issu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s. Cristi - Chero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w and Arrow, pipe are Najav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er head rattle and pipe are Chero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ue – 3 important facts to the Woodland Indains. The turtle represents earth, pumpkin, corn and beans were staples in food, warrior to protec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gle feathers were sacred, only the Eagle Dancer could touch th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 came from the man’s rib and turned into wom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 woman have say at meetings because they run the hou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ven is seen as the trickster and “boogie-man”, he will steal souls when people di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rs. Cristi - Cherok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ow and Arrow, pipe are Najav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er head rattle and pipe are Cherok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tue – 3 important facts to the Woodland Indains. The turtle represents earth, pumpkin, corn and beans were staples in food, warrior to protect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gle feathers were sacred, only the Eagle Dancer could touch them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rn came from the man’s rib and turned into woman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erokee woman have say at meetings because they run the hous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ven is seen as the trickster and “boogie-man”, he will steal souls when people di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id they live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moderate-climate regions roughly from the Atlantic to the Mississippi River and included the Great Lak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Ohio River north into Canada is the Northern Woodland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Ohio River south to the Gulf is the Southern Woodland trib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huge area had lots of rainfall, numerous lakes and rivers, and great forests. There was lots of rich earth for planting crop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did they live??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were moderate-climate regions roughly from the Atlantic to the Mississippi River and included the Great Lak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the Ohio River north into Canada is the Northern Woodland trib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the Ohio River south to the Gulf is the Southern Woodland trib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huge area had lots of rainfall, numerous lakes and rivers, and great forests. There was lots of rich earth for planting crop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hio River north into Can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hio River south to the G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hio River north into Cana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hio River south to the Gul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odland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ena and Hopewell – the earliest tribes and were mound build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– warri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, Chocktaw, Chickasaw, Creek – Southeastern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– Florida trib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odland trib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ena and Hopewell – the earliest tribes and were mound build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roquois – warri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erokee, Chocktaw, Chickasaw, Creek – Southeastern trib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minole – Florida trib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- 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odland Indians were deer-hunters and farm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n made bows and arrows, stone knives and war clubs. Bones were also used for too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unted and used all of the deer they hun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 was also a major part of their die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eryday Life - M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odland Indians were deer-hunters and farmer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en made bows and arrows, stone knives and war clubs. Bones were also used for tool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hunted and used all of the deer they hunted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sh was also a major part of their diet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 - Wo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en  grew beans, corn, pumpkin, squash and tobacc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also harvested these crops and prepared the foo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ried berries, corn, fish, meat and squash for the win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lso made the pots for cooking out of red or black cla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d one major ceremony to honor the rain gods every year for healthy crop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eryday Life  - Wom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men  grew beans, corn, pumpkin, squash and tobacco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men also harvested these crops and prepared the food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dried berries, corn, fish, meat and squash for the winter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also made the pots for cooking out of red or black cl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had one major ceremony to honor the rain gods every year for healthy crop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-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odland tribes were the first to invent a game like lacros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boy was 13 they went on a Vision Qu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d to spend 3-5 days out in the woods and analyze their dre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believed that a spirit would come to them and give them guidance about their fu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eryday Life - Ki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odland tribes were the first to invent a game like lacross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a boy was 13 they went on a Vision Ques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had to spend 3-5 days out in the woods and analyze their drea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believed that a spirit would come to them and give them guidance about their futur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live in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popular house was a wigw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either covered with bark, grasses or leav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set up in villages of 200-400 ho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did they live in??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ost popular house was a wigw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was either covered with bark, grasses or leav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were set up in villages of 200-400 hou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6E17-3761-4974-8B07-0C6C81726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60D6-6563-45EC-9480-4D7C2A14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3331-1DA0-4EF4-BD49-8170E366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F349-4E0C-4F48-9FDB-4057B4B9A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AF4C-B555-4341-84F9-DFF952430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A667-36B0-4973-B723-C78F9231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FE7A-F46E-49A9-915B-B51DC816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D709-4165-4633-B912-FF0CE23E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A4EC-C84F-4746-9325-10938CEA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91D3-2DD7-44C8-84B7-ECFB9110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66B4-3D76-4E06-BFEE-AEB6190A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36BB-945F-43A7-A1CA-13EDB8EF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EB19-A860-4D4C-B6A7-A63E6EEE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1E83-5372-4F25-8783-0A53EDCC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B184-EB44-466E-AFCF-0DBF0083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B4AC-6195-4096-B22A-2BAC55D41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9429-724A-409E-8976-D214D30EA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F0E0-D0E1-40BD-A5C1-0ACAFA46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D432-BD0C-4C85-AEBB-101109FB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3397-220C-4193-8A2E-2E2F9BBE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7548-69FC-44B9-972A-40B23A9B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7891-EF66-4F8F-A8F0-E9E9EE5D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BCC6-E17A-4704-BABB-B0F38011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31FF-8C82-45E3-9CA7-5E540068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1027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1028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29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030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031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032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033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34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35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036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037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038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039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040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041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042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043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044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296D-581B-47FD-8A43-3B3814C5D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5BBF-263E-4FB1-AFE9-37EBC00C29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DnmK8dIyPwAcXOJzbkF;_ylu=X3oDMTByNDQwdDU1BHBvcwMxNQRzZWMDc3IEdnRpZANJMDg2XzEwOA--/SIG=1gk9bijb0/EXP=1221098854/**http%3A//images.search.yahoo.com/images/view%3Fback=http%253A%252F%252Fimages.search.yahoo.com%252Fsearch%252Fimages%253Fp%253Diroquois%252Bindians%2526fr%253Dyfp-t-100%2526ei%253Dutf-8%2526x%253Dwrt%26w=211%26h=151%26imgurl=www.aaanativearts.com%252Firoquois_longhouse.jpg%26rurl=http%253A%252F%252Fwww.aaanativearts.com%252Firoquois_nation.htm%26size=14.6kB%26name=iroquois_longhouse.jpg%26p=iroquois%2Bindians%26type=JPG%26oid=65b0f236275a393a%26no=15%26tt=885%26sigr=11g62un92%26sigi=11cj2c0hr%26sigb=12rmc393v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rds.yahoo.com/_ylt=A9G_bHMsLMdIeWQBQ.GJzbkF;_ylu=X3oDMTByNDQwdDU1BHBvcwMxNQRzZWMDc3IEdnRpZANJMDg2XzEwOA--/SIG=1hu6755st/EXP=1221098924/**http%3A//images.search.yahoo.com/images/view%3Fback=http%253A%252F%252Fimages.search.yahoo.com%252Fsearch%252Fimages%253Fp%253Diroquois%252Bindians%252Blonghouse%2526fr%253Dyfp-t-100%2526ei%253Dutf-8%2526x%253Dwrt%26w=500%26h=422%26imgurl=www.nysm.nysed.gov%252FIroquoisVillage%252Fimages%252Ffigure3interiorlg.gif%26rurl=http%253A%252F%252Fwww.bigorrin.org%252Firoquois_kids.htm%26size=80kB%26name=figure3interiorlg.gif%26p=iroquois%2Bindians%2Blonghouse%26type=gif%26oid=39ec2309ba4271be%26no=15%26tt=21%26sigr=119fcb6i2%26sigi=11vjhhvf4%26sigb=135m186h8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qCMsdImPsAgDKJzbkF;_ylu=X3oDMTBybWQwaXUxBHBvcwMxMQRzZWMDc3IEdnRpZANJMDg2XzEwOA--/SIG=1ihrrf254/EXP=1221100546/**http%3A//images.search.yahoo.com/images/view%3Fback=http%253A%252F%252Fimages.search.yahoo.com%252Fsearch%252Fimages%253F_adv_prop%253Dimage%2526fr%253Dyfp-t-100%2526va%253Dwoodland%252Bindian%252Bcanoe%2526sz%253Dall%26w=400%26h=300%26imgurl=www.virginiaplaces.org%252Fnativeamerican%252Fgraphics%252Fhenricuscanoe.jpg%26rurl=http%253A%252F%252Fwww.virginiaplaces.org%252Fnativeamerican%252F6_archai.html%26size=56.5kB%26name=henricuscanoe.jpg%26p=woodland%2Bindian%2Bcanoe%26type=JPG%26oid=fd8c1f90c793fad6%26no=11%26tt=33%26sigr=11qhr231j%26sigi=120fkmmcj%26sigb=139mmt49h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DntLsdIM_EAY2mJzbkF;_ylu=X3oDMTBxNGFtOGxpBHBvcwMxBHNlYwNzcgR2dGlkA0kwODZfMTA4/SIG=1g44d0nvi/EXP=1221099629/**http%3A//images.search.yahoo.com/images/view%3Fback=http%253A%252F%252Fimages.search.yahoo.com%252Fsearch%252Fimages%253Fp%253Dcherokee%252Bindians%2526fr%253Dyfp-t-100%2526ei%253Dutf-8%2526x%253Dwrt%26w=1087%26h=1500%26imgurl=library.thinkquest.org%252FJ002188F%252Fchief2.jpg%26rurl=http%253A%252F%252Flibrary.thinkquest.org%252FJ002188F%26size=223.3kB%26name=chief2.jpg%26p=cherokee%2Bindians%26type=JPG%26oid=5096aacf1d105386%26no=1%26tt=5,421%26sigr=116kgmpcp%26sigi=11af8vm7i%26sigb=12rpl39o3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d/Nordamerikanische_Kulturareale_en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HPoL8dIeWQBPKKJzbkF;_ylu=X3oDMTBxOThsYTZ0BHBvcwMyBHNlYwNzcgR2dGlkA0kwODZfMTA4/SIG=1l8e83ma7/EXP=1221099880/**http%3A//images.search.yahoo.com/images/view%3Fback=http%253A%252F%252Fimages.search.yahoo.com%252Fsearch%252Fimages%253Fp%253Dindian%252Bbow%252Band%252Barrow%2526ni%253D20%2526ei%253DUTF-8%2526fr%253Dyfp-t-100%2526fr2%253Dtab-web%2526xargs%253D0%2526pstart%253D1%2526b%253D1%26w=150%26h=222%26imgurl=www.old-picture.com%252Findians%252Fthumbnails%252FIndian-Holding-Bow-Arrow-th.jpg%26rurl=http%253A%252F%252Fwww.old-picture.com%252Findians%252FIndian-in-Bear-Fur-Costume.htm%26size=10.6kB%26name=Indian-Holding-Bow-Arrow-th.jpg%26p=indian%2Bbow%2Band%2Barrow%26type=JPG%26oid=1626b876200b1b20%26no=2%26tt=563%26sigr=121sen44a%26sigi=126astrvt%26sigb=140bikaem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rds.yahoo.com/_ylt=A9G_bF4YMMdIYCcBU5yJzbkF;_ylu=X3oDMTBxaW9zM2M4BHBvcwM0BHNlYwNzcgR2dGlkA0kwODZfMTA4/SIG=1igiaql6q/EXP=1221099928/**http%3A//images.search.yahoo.com/images/view%3Fback=http%253A%252F%252Fimages.search.yahoo.com%252Fsearch%252Fimages%253Fp%253Dindian%252Bspear%252Bfishing%2526fr%253Dyfp-t-100%2526ei%253Dutf-8%2526x%253Dwrt%26w=150%26h=232%26imgurl=www.old-picture.com%252Findians%252Fthumbnails%252FIndian-Fishing-with-Net-th.jpg%26rurl=http%253A%252F%252Fwww.old-picture.com%252Ffishing-boating-index-001.htm%26size=8.9kB%26name=Indian-Fishing-with-Net-th.jpg%26p=indian%2Bspear%2Bfishing%26type=JPG%26oid=66413400f34a12dc%26no=4%26tt=37%26sigr=11oeb3eu9%26sigi=125tqc39v%26sigb=12v0je8tj" TargetMode="External"/><Relationship Id="rId4" Type="http://schemas.openxmlformats.org/officeDocument/2006/relationships/image" Target="../media/image3.jpeg"/><Relationship Id="rId5" Type="http://schemas.openxmlformats.org/officeDocument/2006/relationships/slide" Target="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0nM8dIQnQAcOCJzbkF;_ylu=X3oDMTBxOThsYTZ0BHBvcwMyBHNlYwNzcgR2dGlkA0kwODZfMTA4/SIG=1jvn2pl6b/EXP=1221100711/**http%3A//images.search.yahoo.com/images/view%3Fback=http%253A%252F%252Fimages.search.yahoo.com%252Fsearch%252Fimages%253F_adv_prop%253Dimage%2526fr%253Dyfp-t-100%2526va%253Dindian%252Blacrosse%252Bsticks%2526sz%253Dall%26w=450%26h=639%26imgurl=www.antiqueskis.com%252Fimage.php%253Ftable%253Dproducts%2526amp%253Bid%253D101%2526amp%253Bkey%253DIDnum%2526amp%253Bfield%253Dlargeimage%26rurl=http%253A%252F%252Fwww.antiqueskis.com%252Fitempop.php%253Fid%253D101%26size=39.9kB%26name=image.php%26p=indian%2Blacrosse%2Bsticks%26type=JPG%26oid=c80737309a995674%26no=2%26tt=16%26sigr=11d45osla%26sigi=12q68sc0i%26sigb=13asmgqoa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HJYLMdIl1UBhjGJzbkF;_ylu=X3oDMTBxNGFtOGxpBHBvcwMxBHNlYwNzcgR2dGlkA0kwODZfMTA4/SIG=1h3fo8c6k/EXP=1221098968/**http%3A//images.search.yahoo.com/images/view%3Fback=http%253A%252F%252Fimages.search.yahoo.com%252Fsearch%252Fimages%253Fp%253Dwigwam%2526fr%253Dyfp-t-100%2526ei%253Dutf-8%2526x%253Dwrt%26w=401%26h=272%26imgurl=www.turtletrack.org%252FIssues02%252FCo11302002%252FArt%252Fwigwam.jpg%26rurl=http%253A%252F%252Fwww.turtletrack.org%252FIssues02%252FCo11302002%252FCO_11302002_Museum.htm%26size=24.9kB%26name=wigwam.jpg%26p=wigwam%26type=JPG%26oid=5eba36528aa3ff88%26no=1%26tt=72,995%26sigr=125b5patp%26sigi=11mg8v21b%26sigb=12hpcshj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rds.yahoo.com/_ylt=A9G_bHJYLMdIl1UBijGJzbkF;_ylu=X3oDMTBxMjE4MGZiBHBvcwM1BHNlYwNzcgR2dGlkA0kwODZfMTA4/SIG=1fo983san/EXP=1221098968/**http%3A//images.search.yahoo.com/images/view%3Fback=http%253A%252F%252Fimages.search.yahoo.com%252Fsearch%252Fimages%253Fp%253Dwigwam%2526fr%253Dyfp-t-100%2526ei%253Dutf-8%2526x%253Dwrt%26w=450%26h=337%26imgurl=www.researchcasting.ca%252Fimages%252Fwigwam.jpg%26rurl=http%253A%252F%252Fwww.researchcasting.ca%252Finteractive%252520wigwam.htm%26size=42kB%26name=wigwam.jpg%26p=wigwam%26type=JPG%26oid=253551657a92d500%26no=5%26tt=72,995%26sigr=11m7nq7hr%26sigi=118j9ah6i%26sigb=12hpcshj1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The Woodland Indian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4191120"/>
            <a:ext cx="2743200" cy="1962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3429000"/>
            <a:ext cx="3581280" cy="30132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ere did they live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ortheastern tribes mostly lived in longhous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families would live in one hous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about travel??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ribes lived near water for transportation purpos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orthern tribes made birchbark canoes and the southeastern tribes dug out canoes from tree trunk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land, the natives traveled on foot and bore their cargo on their backs, having no pack animal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gs were their sole domesticated animal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8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4521240"/>
            <a:ext cx="3124080" cy="23367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oodland Fash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erous hours were required to make the popular deerskin summer appare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rs from bears, rabbits and raccoons kept them warm in the wint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rkey feathers were a popular accessory since it is waterproof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ce painting and the men's scalp lock (with shaven side hair) were typica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s in the clothes were closely tied to n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48440" y="3962520"/>
            <a:ext cx="2095560" cy="2895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Go to fullsize image"/>
          <p:cNvPicPr/>
          <p:nvPr/>
        </p:nvPicPr>
        <p:blipFill>
          <a:blip r:embed="rId3"/>
          <a:stretch/>
        </p:blipFill>
        <p:spPr>
          <a:xfrm>
            <a:off x="7091280" y="609480"/>
            <a:ext cx="2052720" cy="3171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wdlndshirtsmal"/>
          <p:cNvPicPr/>
          <p:nvPr/>
        </p:nvPicPr>
        <p:blipFill>
          <a:blip r:embed="rId4"/>
          <a:stretch/>
        </p:blipFill>
        <p:spPr>
          <a:xfrm>
            <a:off x="380880" y="0"/>
            <a:ext cx="3810240" cy="3019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wdlndapronssmal"/>
          <p:cNvPicPr/>
          <p:nvPr/>
        </p:nvPicPr>
        <p:blipFill>
          <a:blip r:embed="rId5"/>
          <a:stretch/>
        </p:blipFill>
        <p:spPr>
          <a:xfrm>
            <a:off x="4191120" y="3200400"/>
            <a:ext cx="2749320" cy="3471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wdlndvestsmal"/>
          <p:cNvPicPr/>
          <p:nvPr/>
        </p:nvPicPr>
        <p:blipFill>
          <a:blip r:embed="rId6"/>
          <a:stretch/>
        </p:blipFill>
        <p:spPr>
          <a:xfrm>
            <a:off x="228600" y="3505320"/>
            <a:ext cx="3809880" cy="27241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ar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r was very frequent between the Woodland trib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ly an Iroquois Chief, Hiawatha, was tired of fighting and formed the Iroquois League of N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where each tribe had a representative that would come and debate on war and tribal issu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Iroquois Five Nations c. 1650"/>
          <p:cNvPicPr/>
          <p:nvPr/>
        </p:nvPicPr>
        <p:blipFill>
          <a:blip r:embed="rId1"/>
          <a:stretch/>
        </p:blipFill>
        <p:spPr>
          <a:xfrm>
            <a:off x="1752480" y="609480"/>
            <a:ext cx="6629400" cy="571824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rs. Cristi - Cheroke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w and Arrow, pipe are Naja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er head rattle and pipe are Cherok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ue – 3 important facts to the Woodland Indains. The turtle represents earth, pumpkin, corn and beans were staples in food, warrior to protec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gle feathers were sacred, only the Eagle Dancer could touch the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n came from the man’s rib and turned into woma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rokee woman have say at meetings because they run the hous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ven is seen as the trickster and “boogie-man”, he will steal souls when people di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ere did they live??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re moderate-climate regions roughly from the Atlantic to the Mississippi River and included the Great Lak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m the Ohio River north into Canada is the Northern Woodland trib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m the Ohio River south to the Gulf is the Southern Woodland trib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huge area had lots of rainfall, numerous lakes and rivers, and great forests. There was lots of rich earth for planting crop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Image:Nordamerikanische Kulturareale en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0102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Line 7"/>
          <p:cNvSpPr/>
          <p:nvPr/>
        </p:nvSpPr>
        <p:spPr>
          <a:xfrm flipH="1">
            <a:off x="4495680" y="2514600"/>
            <a:ext cx="2286000" cy="1600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8"/>
          <p:cNvSpPr/>
          <p:nvPr/>
        </p:nvSpPr>
        <p:spPr>
          <a:xfrm flipH="1" flipV="1">
            <a:off x="4419720" y="5486400"/>
            <a:ext cx="266688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6629400" y="1676520"/>
            <a:ext cx="2514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6918480" y="685800"/>
            <a:ext cx="192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6537240" y="1790640"/>
            <a:ext cx="222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6553080" y="17524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hio River north into Can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6934320" y="54100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hio River south to the Gul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Woodland trib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dena and Hopewell – the earliest tribes and were mound build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roquois – warri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erokee, Chocktaw, Chickasaw, Creek – Southeastern trib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minole – Florida trib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veryday Life - Me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odland Indians were deer-hunters and farmer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en made bows and arrows, stone knives and war clubs. Bones were also used for tool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hunted and used all of the deer they hunte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sh was also a major part of their diet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676520"/>
            <a:ext cx="2192040" cy="3276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5880" y="1371600"/>
            <a:ext cx="2271960" cy="3514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love the earth and she will provide...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352680" y="1828800"/>
            <a:ext cx="2381400" cy="291456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veryday Life  - Wome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men  grew beans, corn, pumpkin, squash and tobacc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men also harvested these crops and prepared the foo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dried berries, corn, fish, meat and squash for the wint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lso made the pots for cooking out of red or black cla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had one major ceremony to honor the rain gods every year for healthy crop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veryday Life - Kid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629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odland tribes were the first to invent a game like lacross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 boy was 13 they went on a Vision Que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had to spend 3-5 days out in the woods and analyze their dre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believed that a spirit would come to them and give them guidance about their fu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13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34320" y="2362320"/>
            <a:ext cx="1882800" cy="267624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did they live in??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st popular house was a wigw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was either covered with bark, grasses or leav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were set up in villages of 200-400 ho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6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962520"/>
            <a:ext cx="3276720" cy="2200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3962520"/>
            <a:ext cx="2971800" cy="22064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1:33:20Z</dcterms:created>
  <dc:creator>Christine J. Goff</dc:creator>
  <dc:description/>
  <dc:language>en-US</dc:language>
  <cp:lastModifiedBy>Legion</cp:lastModifiedBy>
  <dcterms:modified xsi:type="dcterms:W3CDTF">2017-07-06T06:38:19Z</dcterms:modified>
  <cp:revision>9</cp:revision>
  <dc:subject/>
  <dc:title>The Woodland Indians</dc:title>
</cp:coreProperties>
</file>